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ABE-A5EA-410C-BCD7-78E35C95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C1B3-51EC-4FF4-9438-D542A8A2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3BA3-E50B-4202-AADA-418E9471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158-5051-46D8-BB13-E9B6A21D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518-C6F6-4A89-8B58-4DD6D8ED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B9C-CCC5-48BF-9352-CC6D9753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C0A-7078-4770-B08A-C61EDACE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F92-75E7-474A-823A-6F82DD93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AAF-9584-49F1-B01B-23B3AF54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B88-D00F-49A1-B8E7-6D390DED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C0D2-BA0C-4835-98EF-DFAE8522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7F7-32FC-4DDF-9BEB-FB05FFEB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552E-C31C-4DCC-99D2-626F090F6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freeplaymusic.com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eb.mit.edu/invent/i-archive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84360" y="950760"/>
            <a:ext cx="603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6200000">
            <a:off x="6438960" y="789120"/>
            <a:ext cx="45864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7447680" y="3905640"/>
            <a:ext cx="45900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13560" y="4684680"/>
            <a:ext cx="16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11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.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19320" y="457200"/>
            <a:ext cx="7238880" cy="383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000000"/>
                    </a:gs>
                    <a:gs pos="100000">
                      <a:srgbClr val="ff66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am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000000"/>
                  </a:gs>
                  <a:gs pos="100000">
                    <a:srgbClr val="ff66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000000"/>
                    </a:gs>
                    <a:gs pos="100000">
                      <a:srgbClr val="ff66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f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000000"/>
                  </a:gs>
                  <a:gs pos="100000">
                    <a:srgbClr val="ff66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000000"/>
                    </a:gs>
                    <a:gs pos="100000">
                      <a:srgbClr val="ff66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000000"/>
                    </a:gs>
                    <a:gs pos="100000">
                      <a:srgbClr val="ff66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sketbal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000000"/>
                  </a:gs>
                  <a:gs pos="100000">
                    <a:srgbClr val="ff66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4495680"/>
            <a:ext cx="523800" cy="183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33480" y="4336920"/>
            <a:ext cx="1536840" cy="1962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400800" y="2286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0948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830160"/>
            <a:ext cx="23623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;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ow and Jubilat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/1/20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Naismith"/>
          <p:cNvPicPr/>
          <p:nvPr/>
        </p:nvPicPr>
        <p:blipFill>
          <a:blip r:embed="rId2"/>
          <a:stretch/>
        </p:blipFill>
        <p:spPr>
          <a:xfrm>
            <a:off x="228600" y="762120"/>
            <a:ext cx="5715000" cy="358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98560" y="5675400"/>
            <a:ext cx="291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6172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sketball (G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17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-archiv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vention/ 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ed by a childhood gamed played by James Naismith called “Duck on a Rock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09, The first official basketball was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official intercollegiate basketball game was. played in 18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36, basketball became an olympic 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fessional league is currently named the National Basketball Association (NB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professional game was played in 193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professional league was called the National Basketball League  (NB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James Naism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Naismith was Canadian-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November 6, 186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ed McGill University in Montr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ued athletics, won Wick stead medals for best all around ath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k a job at McGill as a P.E.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d November 28, 193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8:47Z</dcterms:created>
  <dc:creator>install</dc:creator>
  <dc:description/>
  <dc:language>en-US</dc:language>
  <cp:lastModifiedBy>install</cp:lastModifiedBy>
  <dcterms:modified xsi:type="dcterms:W3CDTF">2011-06-01T17:35:46Z</dcterms:modified>
  <cp:revision>11</cp:revision>
  <dc:subject/>
  <dc:title>Slide 1</dc:title>
</cp:coreProperties>
</file>